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gif" ContentType="image/gif"/>
  <Override PartName="/ppt/media/image5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157-3A8B-4D9C-AF54-59300EBA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A631-5AC1-47DB-B291-6D5B13BB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CE5-4B07-4C18-87C8-29F4BAE1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9F2-7483-4636-98BD-CF733545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676D-FB4E-4F03-A36A-58CDE37C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A211-E1A1-4339-989D-049DABC6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3A2B-B53F-4E6A-90D6-765FE2E9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A8E2-DFED-4665-9A23-6A8CB4BB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2B93-1DDA-4811-92FA-FFE544DD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8F26-7239-4A71-ACFB-CA4D7CB6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79E0-4C4C-4134-91CA-415A8D0B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CC2D-56B6-4999-837A-9A817E0B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90EE-12FC-4513-A9EE-B11EA87C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19DF-6B58-45AD-B5E7-44557EDB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0C56-3440-4CA9-AC14-53CA3F11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9555-311A-433B-B4F7-2FE749C1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4BAF-4E62-4DFB-B080-74D8EF21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A78-0D87-4D81-8C99-8E69C956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8DB-DD16-491A-AE07-FEF1CBA4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FCA7-7337-4061-B1E2-6EF269EA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558-A0CE-45F8-9305-275BF3DA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D8B-008D-43B1-B4DC-11E95232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F46-CC61-4EF9-9D8E-B87DAB82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3DC-84EF-4761-884B-D225E024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DFA5-85D5-4122-A9BD-A07CE3F5967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7EE8-0A95-4853-A1A8-EB04BC52667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33"/>
                </a:solidFill>
                <a:latin typeface="Arial"/>
              </a:rPr>
              <a:t>Классный час по теме:</a:t>
            </a:r>
            <a:br>
              <a:rPr sz="4800"/>
            </a:br>
            <a:r>
              <a:rPr b="0" lang="en-US" sz="4800" spc="-1" strike="noStrike">
                <a:solidFill>
                  <a:srgbClr val="33cc33"/>
                </a:solidFill>
                <a:latin typeface="Arial"/>
              </a:rPr>
              <a:t>«Скажи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«Нет!»</a:t>
            </a:r>
            <a:r>
              <a:rPr b="0" lang="en-US" sz="4800" spc="-1" strike="noStrike">
                <a:solidFill>
                  <a:srgbClr val="33cc33"/>
                </a:solidFill>
                <a:latin typeface="Arial"/>
              </a:rPr>
              <a:t> вредным привычкам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868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Упражнение №4: «Мои истории»</a:t>
            </a:r>
            <a:br>
              <a:rPr sz="40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«Что будет, если мне будет очень плохо?»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«Что будет, если я буду очень одинок?»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«Что будет, если я серьезно заболею?»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«Что будет, если я не смогу отказаться от наркотиков?»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627280" y="4076640"/>
            <a:ext cx="358632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4920" y="272880"/>
            <a:ext cx="8286840" cy="625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Тест «Полезные привычки»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1) Соблюдаю ли я режим дня?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2) Делаю ли я утреннюю зарядку?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3) С удовольствием ли я хожу на уроки физкультуры?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4) Занимаюсь ли я физическим трудом?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5) Вызывает ли у меня отвращение табачный дым?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6) Могу ли я несколько раз подтянуться или отжаться от пола?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7) Гуляю ли я на свежем воздухе?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8) Считаю ли я алкоголь вредным веществом?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9) Умею ли я плавать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-892440"/>
            <a:ext cx="8569080" cy="56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Результаты теста:</a:t>
            </a:r>
            <a:br>
              <a:rPr sz="44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твет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«да»-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3 балла,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ответ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«нет»-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1 балл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4033800" cy="2808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859280" y="3645000"/>
            <a:ext cx="37450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9- 13 баллов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ваш образ жизни здоровым не назовешь. К сожалению, у вас число вредных привычек значительно больше, чем полезных. Вам нужно срочно предпринимать шаги для изменения ситуации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084720" y="4076640"/>
            <a:ext cx="25927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620280"/>
            <a:ext cx="82263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14- 19 баллов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у вас есть как полезные, так и вредные привычки. Нужно стараться вырабатывать больше полезных привычек и бороться с вредным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3816360" cy="2879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424836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549000"/>
            <a:ext cx="822636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20- 27 баллов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вы ведете здоровый образ жизни. Остается пожелать, чтобы и в дальнейшей жизни вы приобретали только полезные привычк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43280" y="3429000"/>
            <a:ext cx="4125960" cy="2927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41050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33"/>
                </a:solidFill>
                <a:latin typeface="Arial"/>
              </a:rPr>
              <a:t>Сегодня я понял…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Мне понравилось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549360"/>
            <a:ext cx="86630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профилактика вредных привычек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Посеешь привычку- </a:t>
            </a:r>
            <a:br>
              <a:rPr sz="4400"/>
            </a:b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пожнешь характер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Упражнение №1:</a:t>
            </a:r>
            <a:br>
              <a:rPr sz="4000"/>
            </a:b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«Сорняки и розы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5400" y="1598760"/>
            <a:ext cx="4041720" cy="4497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640040" y="1598760"/>
            <a:ext cx="4041720" cy="4497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3346200" cy="4622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5076720" y="1700280"/>
            <a:ext cx="3313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183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редные привычки-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это привычки, которые мешают или не дают возможности человеку реализовывать себя как личность.</a:t>
            </a:r>
            <a:br>
              <a:rPr sz="3200"/>
            </a:b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Черты пагубных пристрастий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3068640"/>
            <a:ext cx="8226360" cy="30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Разрушительны для здоровья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Постепенно подчиняют себе все действия человек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Обладают наркотически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эффектом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Зависимость от наркотических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еществ постоянно возрастае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84720" y="4581360"/>
            <a:ext cx="28576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560" y="-1395360"/>
            <a:ext cx="8591400" cy="788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Эйфория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то субъективно приятное состояние, заключающееся в ощущении возбуждения, бодрости, прилива сил, улучшении настроения, в ощущении своей значимости, неограниченности возможностей.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Объективно это очень вредное состояние, так как при этом человек всегда отключается от реальности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627280" y="4292640"/>
            <a:ext cx="367200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59140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аркогенные вещества-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это все вещества, вызывающие наркотический эффект.</a:t>
            </a:r>
            <a:br>
              <a:rPr sz="4400"/>
            </a:b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Группы наркогенных веществ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3209400"/>
            <a:ext cx="822636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Наркотики, использование которых без медицинских показаний запрещено законом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Алкоголь и никотин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Токсические вещества, способные вызвать наркотический эффект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5914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Стадии формирования зависимости человека от наркогенных веществ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2276280"/>
            <a:ext cx="822636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ащитная реакция организма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сихическая зависимость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Физическая зависимость;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озрастание переносимости наркогенного вещест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508720" y="4653000"/>
            <a:ext cx="3419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-1900080"/>
            <a:ext cx="8591400" cy="74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Упражнение №2: «Попробуй отказаться»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- Пойдем со мной в поход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492360" y="3933720"/>
            <a:ext cx="1440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Упражнение №3: «Отказ от спиртного»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5484600" cy="50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Сережа с Колей летом гуляют. Жарко, и Сережа предлагает Коле: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 Пойдем, купим пива!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 Нет, не пойду!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 Почему?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 Родители не разрешают!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- Слабак! Ну попробуй,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ОТ БАНКИ ПИВА НИЧЕГО НЕ БУДЕТ!</a:t>
            </a:r>
            <a:br>
              <a:rPr sz="1800"/>
            </a:b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- Сказал не буду, значит, не буду! Мне тренер не разрешает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331632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2:27:39Z</dcterms:created>
  <dc:creator>Прокуратура Саратовской области</dc:creator>
  <dc:description/>
  <dc:language>en-US</dc:language>
  <cp:lastModifiedBy>Прокуратура Саратовской области</cp:lastModifiedBy>
  <dcterms:modified xsi:type="dcterms:W3CDTF">2011-12-21T06:42:22Z</dcterms:modified>
  <cp:revision>12</cp:revision>
  <dc:subject/>
  <dc:title>Классный час по теме: «Вредные привычки</dc:title>
</cp:coreProperties>
</file>